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.png" ContentType="image/png"/>
  <Override PartName="/ppt/media/image19.gif" ContentType="image/gif"/>
  <Override PartName="/ppt/media/image10.png" ContentType="image/png"/>
  <Override PartName="/ppt/media/image8.pct" ContentType="image/x-pict"/>
  <Override PartName="/ppt/media/image13.gif" ContentType="image/gif"/>
  <Override PartName="/ppt/media/image9.pct" ContentType="image/x-pict"/>
  <Override PartName="/ppt/media/image7.gif" ContentType="image/gif"/>
  <Override PartName="/ppt/media/image21.png" ContentType="image/png"/>
  <Override PartName="/ppt/media/image4.png" ContentType="image/png"/>
  <Override PartName="/ppt/media/image18.pct" ContentType="image/x-pict"/>
  <Override PartName="/ppt/media/image3.png" ContentType="image/png"/>
  <Override PartName="/ppt/media/image17.png" ContentType="image/png"/>
  <Override PartName="/ppt/media/image16.pct" ContentType="image/x-pict"/>
  <Override PartName="/ppt/media/image20.png" ContentType="image/png"/>
  <Override PartName="/ppt/media/image15.gif" ContentType="image/gif"/>
  <Override PartName="/ppt/media/image2.png" ContentType="image/png"/>
  <Override PartName="/ppt/media/image14.jpeg" ContentType="image/jpeg"/>
  <Override PartName="/ppt/media/image5.gif" ContentType="image/gif"/>
  <Override PartName="/ppt/media/image11.pct" ContentType="image/x-pict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1A5-54E4-42DD-B2AB-65739C85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40C-C8F1-494D-B1F4-E765816F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7A3-A946-4679-8F1A-22EFE9EA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6F4-B369-4FEE-88F5-AE803294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4268-96CC-4FE0-8E4D-BC32FBD1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EC07-FDB2-4247-AE79-7D637900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3228-8D5B-4620-A8A7-2BEBD7F7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F70A-83DB-4763-9240-CE0AEB9A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6BCB-9C03-4305-93BA-33364EA8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8300-22E7-4ABF-9861-BC3E58D2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347D-48EB-4574-AF73-4B796F62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14F-37BD-4833-B082-902D7C2B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487F-FE5A-48B3-B0DE-FFF053D7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E37A-72DA-4192-A732-E908F7C7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49A1-D294-44F0-AEA7-87FC21F1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3ABB-12D7-49B4-BDAA-00828766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F189-5DFC-4D1E-9802-AF027E9F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8EE-F0BD-4CC4-8397-63023117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0CE-B986-4282-B6A0-07C1F447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10B-6484-496F-91A7-849D0355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B6E-4918-47BF-B926-940D7761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982-EE26-4479-A34F-C0402D42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2E4-39AC-4CED-94D3-BEE7A14F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976-BEA3-4E63-972C-DBA901CF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BD99-F914-4BBB-96CD-94B07C5701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1573-63EE-46F2-A45C-78011FDDD625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ct"/><Relationship Id="rId5" Type="http://schemas.openxmlformats.org/officeDocument/2006/relationships/image" Target="../media/image9.pct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ct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0" y="685800"/>
            <a:ext cx="83818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Count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formation: The Catholic Chu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ghts Bac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24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914400" y="914400"/>
            <a:ext cx="739152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als of Catholics in response to Luther and the Reformation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ccccff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1" lang="en-US" sz="3600" spc="-1" strike="noStrike" u="sng">
                <a:solidFill>
                  <a:srgbClr val="ccccff"/>
                </a:solidFill>
                <a:uFillTx/>
                <a:latin typeface="Arial"/>
              </a:rPr>
              <a:t>Stop Protestantism (Lutheranism) from spreading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ccccff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:</a:t>
            </a:r>
            <a:r>
              <a:rPr b="1" lang="en-US" sz="3600" spc="-1" strike="noStrike" u="sng">
                <a:solidFill>
                  <a:srgbClr val="ccccff"/>
                </a:solidFill>
                <a:uFillTx/>
                <a:latin typeface="Arial"/>
              </a:rPr>
              <a:t> Fix the corruptions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ccff"/>
                </a:solidFill>
                <a:uFillTx/>
                <a:latin typeface="Arial"/>
              </a:rPr>
              <a:t>3</a:t>
            </a:r>
            <a:r>
              <a:rPr b="1" lang="en-US" sz="3600" spc="-1" strike="noStrike" u="sng" baseline="30000">
                <a:solidFill>
                  <a:srgbClr val="ccccff"/>
                </a:solidFill>
                <a:uFillTx/>
                <a:latin typeface="Arial"/>
              </a:rPr>
              <a:t>rd</a:t>
            </a:r>
            <a:r>
              <a:rPr b="1" lang="en-US" sz="3600" spc="-1" strike="noStrike" u="sng">
                <a:solidFill>
                  <a:srgbClr val="ccccff"/>
                </a:solidFill>
                <a:uFillTx/>
                <a:latin typeface="Arial"/>
              </a:rPr>
              <a:t>: Spread Catholicism 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ccff"/>
                </a:solidFill>
                <a:latin typeface="Arial"/>
              </a:rPr>
              <a:t>This became known as the Counter Reformation.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2227320" cy="26478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1752480" y="1143000"/>
            <a:ext cx="5553360" cy="24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But how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304920" y="304920"/>
            <a:ext cx="8381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st Goal: Stopping Protestantism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505320" y="1752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quisition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57200" y="2514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= Catholic Court that judged heretic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52280" y="32767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Punishment = Jail, exile, burned at the stake</a:t>
            </a: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1066680" y="2362320"/>
            <a:ext cx="7239240" cy="0"/>
          </a:xfrm>
          <a:prstGeom prst="line">
            <a:avLst/>
          </a:prstGeom>
          <a:ln w="57240">
            <a:solidFill>
              <a:srgbClr val="faf9e6"/>
            </a:solidFill>
            <a:miter/>
            <a:headEnd len="med" type="diamond" w="sm"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174" name="Picture 8" descr="j0283600"/>
          <p:cNvPicPr/>
          <p:nvPr/>
        </p:nvPicPr>
        <p:blipFill>
          <a:blip r:embed="rId3"/>
          <a:stretch/>
        </p:blipFill>
        <p:spPr>
          <a:xfrm>
            <a:off x="4648320" y="4800600"/>
            <a:ext cx="1360440" cy="1380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j0287179"/>
          <p:cNvPicPr/>
          <p:nvPr/>
        </p:nvPicPr>
        <p:blipFill>
          <a:blip r:embed="rId4"/>
          <a:stretch/>
        </p:blipFill>
        <p:spPr>
          <a:xfrm>
            <a:off x="0" y="4302000"/>
            <a:ext cx="3602160" cy="2556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j0287500"/>
          <p:cNvPicPr/>
          <p:nvPr/>
        </p:nvPicPr>
        <p:blipFill>
          <a:blip r:embed="rId5"/>
          <a:stretch/>
        </p:blipFill>
        <p:spPr>
          <a:xfrm>
            <a:off x="7034040" y="3962520"/>
            <a:ext cx="2109960" cy="2895480"/>
          </a:xfrm>
          <a:prstGeom prst="rect">
            <a:avLst/>
          </a:prstGeom>
          <a:ln w="0">
            <a:noFill/>
          </a:ln>
        </p:spPr>
      </p:pic>
      <p:sp>
        <p:nvSpPr>
          <p:cNvPr id="177" name="Line 13"/>
          <p:cNvSpPr/>
          <p:nvPr/>
        </p:nvSpPr>
        <p:spPr>
          <a:xfrm>
            <a:off x="3581280" y="5791320"/>
            <a:ext cx="91440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019920" y="5791320"/>
            <a:ext cx="91440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179" name="Picture 15" descr=""/>
          <p:cNvPicPr/>
          <p:nvPr/>
        </p:nvPicPr>
        <p:blipFill>
          <a:blip r:embed="rId6"/>
          <a:stretch/>
        </p:blipFill>
        <p:spPr>
          <a:xfrm>
            <a:off x="7848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813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304920" y="2286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st Goal: Stopping Protestantism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905120" y="16765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ndex of Prohibited Book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2438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Banned books that Catholics shouldn’t read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52280" y="35053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Such as Protestant Bibles and science book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990720" y="2362320"/>
            <a:ext cx="7315200" cy="0"/>
          </a:xfrm>
          <a:prstGeom prst="line">
            <a:avLst/>
          </a:prstGeom>
          <a:ln w="57240">
            <a:solidFill>
              <a:srgbClr val="faf9e6"/>
            </a:solidFill>
            <a:miter/>
            <a:headEnd len="med" type="diamond" w="sm"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1523880" y="4038480"/>
            <a:ext cx="6324840" cy="2590920"/>
            <a:chOff x="1523880" y="4038480"/>
            <a:chExt cx="6324840" cy="2590920"/>
          </a:xfrm>
        </p:grpSpPr>
        <p:pic>
          <p:nvPicPr>
            <p:cNvPr id="186" name="Picture 8" descr="j0293938"/>
            <p:cNvPicPr/>
            <p:nvPr/>
          </p:nvPicPr>
          <p:blipFill>
            <a:blip r:embed="rId3"/>
            <a:stretch/>
          </p:blipFill>
          <p:spPr>
            <a:xfrm rot="19605000">
              <a:off x="2185920" y="4367160"/>
              <a:ext cx="1712880" cy="18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0" descr="j0233970"/>
            <p:cNvPicPr/>
            <p:nvPr/>
          </p:nvPicPr>
          <p:blipFill>
            <a:blip r:embed="rId4"/>
            <a:stretch/>
          </p:blipFill>
          <p:spPr>
            <a:xfrm>
              <a:off x="5257800" y="4267080"/>
              <a:ext cx="2082960" cy="19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Oval 11"/>
            <p:cNvSpPr/>
            <p:nvPr/>
          </p:nvSpPr>
          <p:spPr>
            <a:xfrm>
              <a:off x="1523880" y="4114800"/>
              <a:ext cx="3048120" cy="2514600"/>
            </a:xfrm>
            <a:prstGeom prst="ellipse">
              <a:avLst/>
            </a:pr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2362320" y="4952880"/>
              <a:ext cx="1143000" cy="368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utheran</a:t>
              </a: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0" name="Oval 13"/>
            <p:cNvSpPr/>
            <p:nvPr/>
          </p:nvSpPr>
          <p:spPr>
            <a:xfrm>
              <a:off x="4800600" y="4038480"/>
              <a:ext cx="3048120" cy="2514600"/>
            </a:xfrm>
            <a:prstGeom prst="ellipse">
              <a:avLst/>
            </a:pr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1981080" y="4495680"/>
              <a:ext cx="2210040" cy="17528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>
              <a:off x="5181480" y="4495680"/>
              <a:ext cx="2210040" cy="17528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54643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228600" y="304920"/>
            <a:ext cx="8610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2nd Goal: Fixing the Corrup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895480" y="19051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Pope Paul III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90720" y="2743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eader of Counter Reformation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90720" y="3276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Documented most corruption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990720" y="38862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Called for “Council of Trent”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143000" y="2590920"/>
            <a:ext cx="7010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sm"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199" name="Picture 9" descr="j0283618"/>
          <p:cNvPicPr/>
          <p:nvPr/>
        </p:nvPicPr>
        <p:blipFill>
          <a:blip r:embed="rId1"/>
          <a:stretch/>
        </p:blipFill>
        <p:spPr>
          <a:xfrm>
            <a:off x="6858000" y="4786200"/>
            <a:ext cx="1979640" cy="20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Paul III"/>
          <p:cNvPicPr/>
          <p:nvPr/>
        </p:nvPicPr>
        <p:blipFill>
          <a:blip r:embed="rId2"/>
          <a:stretch/>
        </p:blipFill>
        <p:spPr>
          <a:xfrm>
            <a:off x="533520" y="44766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95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54643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380880"/>
            <a:ext cx="76197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2nd Goal: Fixing the Corrup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743200" y="1905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uncil of Tren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523880" y="2743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aid out Catholic belief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23880" y="3505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Stopped corruption and kicked out bad clergy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76520" y="44956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Strict rules and training for new priest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1219320" y="2590920"/>
            <a:ext cx="6858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sm"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207" name="Picture 11" descr="j0205395"/>
          <p:cNvPicPr/>
          <p:nvPr/>
        </p:nvPicPr>
        <p:blipFill>
          <a:blip r:embed="rId1"/>
          <a:stretch/>
        </p:blipFill>
        <p:spPr>
          <a:xfrm>
            <a:off x="0" y="4952880"/>
            <a:ext cx="1884240" cy="1905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j0188683"/>
          <p:cNvPicPr/>
          <p:nvPr/>
        </p:nvPicPr>
        <p:blipFill>
          <a:blip r:embed="rId2"/>
          <a:stretch/>
        </p:blipFill>
        <p:spPr>
          <a:xfrm>
            <a:off x="5562720" y="5105520"/>
            <a:ext cx="1827000" cy="1373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5"/>
          <p:cNvSpPr/>
          <p:nvPr/>
        </p:nvSpPr>
        <p:spPr>
          <a:xfrm>
            <a:off x="7467480" y="5410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ntique Olive"/>
              </a:rPr>
              <a:t>Corruption and Problems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210" name="Picture 22" descr=""/>
          <p:cNvPicPr/>
          <p:nvPr/>
        </p:nvPicPr>
        <p:blipFill>
          <a:blip r:embed="rId3"/>
          <a:stretch/>
        </p:blipFill>
        <p:spPr>
          <a:xfrm>
            <a:off x="88390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085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2"/>
          <p:cNvSpPr txBox="1"/>
          <p:nvPr/>
        </p:nvSpPr>
        <p:spPr>
          <a:xfrm>
            <a:off x="457200" y="304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3rd Goal: Spreading Catholicism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523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Jesuits (led by Ignatius Loyola)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219320" y="25146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Disciplined group of Priests / missionari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143000" y="3657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Spread Catholicism to Americas, Asia, Africa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600200" y="48006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Change Germany back to Catholicism (worked for ½)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1066680" y="2362320"/>
            <a:ext cx="7239240" cy="0"/>
          </a:xfrm>
          <a:prstGeom prst="line">
            <a:avLst/>
          </a:prstGeom>
          <a:ln w="57240">
            <a:solidFill>
              <a:srgbClr val="faf9e6"/>
            </a:solidFill>
            <a:miter/>
            <a:headEnd len="med" type="diamond" w="sm"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217" name="Picture 9" descr="j0197796"/>
          <p:cNvPicPr/>
          <p:nvPr/>
        </p:nvPicPr>
        <p:blipFill>
          <a:blip r:embed="rId3"/>
          <a:stretch/>
        </p:blipFill>
        <p:spPr>
          <a:xfrm>
            <a:off x="7807320" y="3745080"/>
            <a:ext cx="1336680" cy="311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j0213508"/>
          <p:cNvPicPr/>
          <p:nvPr/>
        </p:nvPicPr>
        <p:blipFill>
          <a:blip r:embed="rId4"/>
          <a:stretch/>
        </p:blipFill>
        <p:spPr>
          <a:xfrm>
            <a:off x="0" y="4572000"/>
            <a:ext cx="174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rel_pie"/>
          <p:cNvPicPr/>
          <p:nvPr/>
        </p:nvPicPr>
        <p:blipFill>
          <a:blip r:embed="rId1"/>
          <a:stretch/>
        </p:blipFill>
        <p:spPr>
          <a:xfrm>
            <a:off x="3276720" y="1406520"/>
            <a:ext cx="5867280" cy="54514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228600" y="1600200"/>
            <a:ext cx="2438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If Catholics were seperated from Protestants, Catholics = 17%, Protestants = 8%  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1" name="WordArt 7"/>
          <p:cNvSpPr txBox="1"/>
          <p:nvPr/>
        </p:nvSpPr>
        <p:spPr>
          <a:xfrm>
            <a:off x="762120" y="228600"/>
            <a:ext cx="72388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World Religions 2008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2:09:10Z</dcterms:created>
  <dc:creator>VLC</dc:creator>
  <dc:description/>
  <dc:language>en-US</dc:language>
  <cp:lastModifiedBy>San Diego City Schools</cp:lastModifiedBy>
  <dcterms:modified xsi:type="dcterms:W3CDTF">2013-05-10T15:00:58Z</dcterms:modified>
  <cp:revision>57</cp:revision>
  <dc:subject/>
  <dc:title>Slide 1</dc:title>
</cp:coreProperties>
</file>